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6"/>
          <p:cNvSpPr/>
          <p:nvPr/>
        </p:nvSpPr>
        <p:spPr>
          <a:xfrm>
            <a:off x="3351600" y="6237360"/>
            <a:ext cx="24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5" descr="gf dgzer yuy koulkùml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age </a:t>
            </a:r>
            <a:fld id="{6FA5AAE6-09B1-4C48-B885-A029554F3EC1}" type="slidenum">
              <a:rPr b="1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werpointstyles.com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21"/>
          <p:cNvSpPr/>
          <p:nvPr/>
        </p:nvSpPr>
        <p:spPr>
          <a:xfrm>
            <a:off x="3351600" y="6237360"/>
            <a:ext cx="24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20" descr="gh fgh kùlre gf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6"/>
          <p:cNvSpPr/>
          <p:nvPr/>
        </p:nvSpPr>
        <p:spPr>
          <a:xfrm>
            <a:off x="2484360" y="692280"/>
            <a:ext cx="6877080" cy="31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ffffff"/>
                </a:solidFill>
                <a:latin typeface="Arial"/>
              </a:rPr>
              <a:t>8.6  Canadas Global Connectio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5280" y="111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Global Connections</a:t>
            </a: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Historical 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5998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istorical ties are those that link us with other nations and peoples with whom we share a common p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The Commonw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is is an association of 54 nations that share a common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ur ties come from being ruled by the same emp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Global Connections</a:t>
            </a: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Historical 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The Commonw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 English language spoken around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ricket fans, tea drinkers, soccer players all have connections to the British Empire which spread these sports and prac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Queen Victoria (city in Can, state in A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0800"/>
            <a:ext cx="82296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Global Connections</a:t>
            </a: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Economic 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volves individuals and companies doing business all over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anada is a major trading 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No country in the world exports more of the goods and services it produces than Can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Global Connections</a:t>
            </a: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Economic 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anada exported nearly 40% of its GD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ross Domestic Product (GDP)  value of all goods and services produced in a country in one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 2009, Canada exported almost $430 billion in goods and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Global Connections</a:t>
            </a: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Economic 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 2009 we imported about $375 billion wo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NAF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 North American Free Trade Agre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ame into effect on January 4</a:t>
            </a:r>
            <a:r>
              <a:rPr b="0" lang="en-CA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, 19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Global Connections</a:t>
            </a: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Economic 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NAFTA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0" y="2205000"/>
            <a:ext cx="3132000" cy="3133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3132000" y="3948120"/>
            <a:ext cx="4464360" cy="2909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"/>
          <p:cNvPicPr/>
          <p:nvPr/>
        </p:nvPicPr>
        <p:blipFill>
          <a:blip r:embed="rId3"/>
          <a:stretch/>
        </p:blipFill>
        <p:spPr>
          <a:xfrm>
            <a:off x="4716360" y="1413000"/>
            <a:ext cx="445932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Global Connections</a:t>
            </a: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Economic 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NAF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ts members agreed that goods made in one of these countries may be sold without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tariffs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(import taxes) in the other member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Global Connections</a:t>
            </a: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Economic 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25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Global Connections</a:t>
            </a: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Political 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anada has a relatively small population, yet is a major player on the international political sc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anada played a prominent role in the First and Second World Wars and other military confli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Global Connections</a:t>
            </a: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Political 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anada takes part in most major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peacekeeping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efforts, in which Canadian troops maintain a truce between hostile arm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2411280" y="3429000"/>
            <a:ext cx="48974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Global Conn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anada has many global 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day we live in a global world where we can watch live sports coverage taking place in Ch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5580000" y="4164120"/>
            <a:ext cx="342900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Global Connections</a:t>
            </a: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Political 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United N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anada participates heavily in the 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is organization was formed after the Second World Warn to help prevent future w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Global Connections</a:t>
            </a: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Political 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United N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n organization where most countries can work out their dif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191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anada was one of the original memb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anada contributed 40 million for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-16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Global Connections</a:t>
            </a: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Political 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United N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day the UN has many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ries to promote international 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t helps poor nations increase your w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25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Global Connections</a:t>
            </a: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Political 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United N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ries to reduce international conflict and increase international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reserving human rights is a major part of the UN’s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 UN focuses on countries that suffer from war and famine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Global Connections</a:t>
            </a: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Political 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5998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United N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se efforts include provi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mergency 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king Efforts to resolve cr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roviding peacekee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roviding agreements to guarantee human r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Global Connections</a:t>
            </a: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Political 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1600200"/>
          <a:ext cx="8229600" cy="5140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9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 Agreemen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rpos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9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versal Declaration of Human Righ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establish basic human righ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19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vention on the Rights of the Chi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establish the basic rights of childr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vention against Genoci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an genocide (the destruction of a national ethnic, racial or religious group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Check Your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age 317 # 6,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age 318 # 9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age 319 #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age 320 #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age 321 # 13,14, 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Global Conn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e eat international dis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ur stores are full of goods made in other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792000" y="2276640"/>
            <a:ext cx="2901960" cy="2176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5435640" y="2276640"/>
            <a:ext cx="3057480" cy="22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Global Conn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ur nation includes millions of people who left other countries to make Canada their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3068640"/>
            <a:ext cx="4572000" cy="378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5219640" y="3068640"/>
            <a:ext cx="3673440" cy="37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Global Conn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5998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anadians have excelled internationally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usic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979640" y="2776680"/>
            <a:ext cx="61214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Global Conn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143000" y="981000"/>
            <a:ext cx="68580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Global Conn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uth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332000" y="1447920"/>
            <a:ext cx="676908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Global Conn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olitical Le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050920" y="1557360"/>
            <a:ext cx="59770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Global Conn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usiness Le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476360" y="1905120"/>
            <a:ext cx="590400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>Image credit to FreeDigitalPhotos.net</dc:description>
  <dc:language>en-US</dc:language>
  <cp:lastModifiedBy>Jason</cp:lastModifiedBy>
  <dcterms:modified xsi:type="dcterms:W3CDTF">2011-01-13T12:34:09Z</dcterms:modified>
  <cp:revision>40</cp:revision>
  <dc:subject/>
  <dc:title>Earth of Money</dc:title>
</cp:coreProperties>
</file>